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move the slide</a:t>
            </a:r>
            <a:endParaRPr b="0" lang="en-US" sz="4400" spc="-1" strike="noStrike">
              <a:solidFill>
                <a:srgbClr val="c1cb75"/>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FFF9-6BA3-4FDA-8584-CEA256D21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was after the Feast of Dedication in Dec.  Feast of Dedication was established to celebrate the rededication of the temple and the relighting of sacred lamps by Judas Maccabeus in 164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Antipas was the one that had John behead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ility – one who exalts himself will be humbled is taught in Matt 18:4, 23:12, and Rom 12: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ing poor guest is laying up treasures in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ke 14:15 “Blessed is he that shall eat bread in the kingdom of heaven” was spoken by a Jew referring to a physical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s made excuses, Gentiles will b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cuses:  finish education, establish career, raise famil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asked if it was lawful to heal on the sabbath prior to healing the man of dropsy (a disease of fluid r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sked if their cow or donkey fell into a pit, would they get them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e father and mother – lov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 intending to build a to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192C5-A34F-4BF6-B558-57D3CA14F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73C4D-F0C8-4256-B651-580FDD40C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725B1-0A41-41B3-958E-6D24D51C9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50565-3977-4D99-83A4-918685EFF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42AA5D-959E-4E84-AF99-E7C0D662FA8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98ED29-2F3F-44B6-932F-916FFEC923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AA13FE-05BB-4045-809C-487C871E6E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337AEC-70A2-4EA6-95DF-9A9B77E353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FDFE56-A5B8-42B1-A7B7-F918CF3A5E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B85A45-24FB-4EC3-9B14-C55A13ECBAB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7ECDFE-56CB-4EF0-A352-B5BDCDCA3A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D487C-40DC-4124-A756-2AB49A2D6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6791B9-7471-4BDA-A7B5-6DE1AB0AB6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5997AB-DF99-47E1-9950-21D08C36F3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4FC4CC-ECC3-4FF8-B86F-700345B7B6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208ECB-08D2-4FDA-B753-26B7EC970F3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0F97D5-4BA4-41D0-A3E6-918C3BD013B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CDA8A-025F-4A0F-9DEE-8D593CD05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C24C4-67A5-4BA7-835C-793F6B1AF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49CD3-5A1B-4039-94CB-A05B3C4B6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816CE-EFA8-4346-88CC-16FA9DEE6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4937B-EE6E-483B-B772-E34C54BD0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6460D-E119-4DC6-B09D-EFA2F780C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7D0CB-9653-4B54-B567-368D774D9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8F50-D38A-4A05-B77E-AD18C4F8DE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BF82-343C-48D3-8C74-0B757E4E77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Go Tell The Good News</a:t>
            </a:r>
            <a:br>
              <a:rPr sz="4400"/>
            </a:br>
            <a:r>
              <a:rPr b="0" lang="en-US" sz="3200" spc="-1" strike="noStrike">
                <a:solidFill>
                  <a:srgbClr val="c1cb75"/>
                </a:solidFill>
                <a:latin typeface="Tahoma"/>
              </a:rPr>
              <a:t>Summary of 1 Timothy</a:t>
            </a:r>
            <a:endParaRPr b="0" lang="en-US" sz="3200" spc="-1" strike="noStrike">
              <a:solidFill>
                <a:srgbClr val="c1cb75"/>
              </a:solidFill>
              <a:latin typeface="Tahoma"/>
            </a:endParaRPr>
          </a:p>
        </p:txBody>
      </p:sp>
      <p:sp>
        <p:nvSpPr>
          <p:cNvPr id="91"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rter 12, Lesson 19</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imoth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ges 234 - 24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600"/>
            <a:ext cx="8229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1 Timothy 5</a:t>
            </a:r>
            <a:endParaRPr b="0" lang="en-US" sz="4400" spc="-1" strike="noStrike">
              <a:solidFill>
                <a:srgbClr val="c1cb75"/>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expounds on the treatment of older and younger memb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expounds on the treatment of widow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expounds on the treatment of eld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admonishes Timothy to keep pur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600"/>
            <a:ext cx="8229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1 Timothy 6</a:t>
            </a:r>
            <a:endParaRPr b="0" lang="en-US" sz="4400" spc="-1" strike="noStrike">
              <a:solidFill>
                <a:srgbClr val="c1cb75"/>
              </a:solidFill>
              <a:latin typeface="Tahoma"/>
            </a:endParaRPr>
          </a:p>
        </p:txBody>
      </p:sp>
      <p:sp>
        <p:nvSpPr>
          <p:cNvPr id="113"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discusses the relationship of masters and serva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tells Timothy to withdraw himself from those that teach error and do not consent to sound doctri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content if you have food and cloth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ght the good fight of fait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uard what was committed to your trus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8052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cb75"/>
                </a:solidFill>
                <a:latin typeface="Tahoma"/>
              </a:rPr>
              <a:t>Paul’s possible release from prison</a:t>
            </a:r>
            <a:endParaRPr b="0" lang="en-US" sz="4000" spc="-1" strike="noStrike">
              <a:solidFill>
                <a:srgbClr val="c1cb75"/>
              </a:solidFill>
              <a:latin typeface="Tahoma"/>
            </a:endParaRPr>
          </a:p>
        </p:txBody>
      </p:sp>
      <p:sp>
        <p:nvSpPr>
          <p:cNvPr id="93"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on information within Paul’s writings,  it seems that Paul was released from prison in Rome for a perio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ilippians 2:24 - While in prison he told Philippians that he hoped to visit them short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ilemon 22 - He told Philemon that he hoped to visit him soo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Timothy 1:3 - Paul left Timothy in Ephesus as he went into Macedonia (the direction does not fit into Acts’ accoun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tus 1:5 - Paul left Titus in Crete (he did not preach in Crete in Acts’ accoun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tus 3:12 – Paul planned to winter in Nicopolis (he did not go there in Acts’ accou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45684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cb75"/>
                </a:solidFill>
                <a:latin typeface="Tahoma"/>
              </a:rPr>
              <a:t>Paul’s possible itinerary:  Rome &gt; Crete &gt; Ephesus &gt; Philippi in Macedonia &gt; Nicopolis</a:t>
            </a:r>
            <a:endParaRPr b="0" lang="en-US" sz="3200" spc="-1" strike="noStrike">
              <a:solidFill>
                <a:srgbClr val="c1cb75"/>
              </a:solidFill>
              <a:latin typeface="Tahoma"/>
            </a:endParaRPr>
          </a:p>
        </p:txBody>
      </p:sp>
      <p:grpSp>
        <p:nvGrpSpPr>
          <p:cNvPr id="95" name=""/>
          <p:cNvGrpSpPr/>
          <p:nvPr/>
        </p:nvGrpSpPr>
        <p:grpSpPr>
          <a:xfrm>
            <a:off x="380880" y="1828800"/>
            <a:ext cx="8229600" cy="4525920"/>
            <a:chOff x="380880" y="1828800"/>
            <a:chExt cx="8229600" cy="4525920"/>
          </a:xfrm>
        </p:grpSpPr>
        <p:pic>
          <p:nvPicPr>
            <p:cNvPr id="96" name="" descr=""/>
            <p:cNvPicPr/>
            <p:nvPr/>
          </p:nvPicPr>
          <p:blipFill>
            <a:blip r:embed="rId2"/>
            <a:stretch/>
          </p:blipFill>
          <p:spPr>
            <a:xfrm>
              <a:off x="380880" y="1828800"/>
              <a:ext cx="8229600" cy="4525920"/>
            </a:xfrm>
            <a:prstGeom prst="rect">
              <a:avLst/>
            </a:prstGeom>
            <a:ln w="0">
              <a:noFill/>
            </a:ln>
          </p:spPr>
        </p:pic>
        <p:sp>
          <p:nvSpPr>
            <p:cNvPr id="97" name=""/>
            <p:cNvSpPr txBox="1"/>
            <p:nvPr/>
          </p:nvSpPr>
          <p:spPr>
            <a:xfrm>
              <a:off x="380880" y="18288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5331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cb75"/>
                </a:solidFill>
                <a:latin typeface="Tahoma"/>
              </a:rPr>
              <a:t>1 Timothy 1</a:t>
            </a:r>
            <a:endParaRPr b="0" lang="en-US" sz="4000" spc="-1" strike="noStrike">
              <a:solidFill>
                <a:srgbClr val="c1cb75"/>
              </a:solidFill>
              <a:latin typeface="Tahoma"/>
            </a:endParaRPr>
          </a:p>
        </p:txBody>
      </p:sp>
      <p:sp>
        <p:nvSpPr>
          <p:cNvPr id="99" name="PlaceHolder 2"/>
          <p:cNvSpPr>
            <a:spLocks noGrp="1"/>
          </p:cNvSpPr>
          <p:nvPr>
            <p:ph/>
          </p:nvPr>
        </p:nvSpPr>
        <p:spPr>
          <a:xfrm>
            <a:off x="457200" y="1752480"/>
            <a:ext cx="8229600" cy="46785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pistle was from Paul to Timothy, a true son in the faith</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asked Timothy to remain in Ephesus to charge some that they teach no other doctrine, nor give heed to fables and genealogies</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desired to be teachers of the law, not understanding what they taught</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expressed appreciation for being counted faithful</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admonished Timothy to fight the good figh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cb75"/>
                </a:solidFill>
                <a:latin typeface="Tahoma"/>
              </a:rPr>
              <a:t>1 Timothy 2</a:t>
            </a:r>
            <a:endParaRPr b="0" lang="en-US" sz="4000" spc="-1" strike="noStrike">
              <a:solidFill>
                <a:srgbClr val="c1cb75"/>
              </a:solidFill>
              <a:latin typeface="Tahoma"/>
            </a:endParaRPr>
          </a:p>
        </p:txBody>
      </p:sp>
      <p:sp>
        <p:nvSpPr>
          <p:cNvPr id="101"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exhorted that supplications, prayers, and intercessions, and giving of thanks be made for all men</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asked that men pray, lifting up holy hands, without wrath and doubting</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asked that women dress modestly, with propriety and moderation</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instructed women to avoid domina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1 Timothy 3:1-7</a:t>
            </a:r>
            <a:endParaRPr b="0" lang="en-US" sz="4400" spc="-1" strike="noStrike">
              <a:solidFill>
                <a:srgbClr val="c1cb75"/>
              </a:solidFill>
              <a:latin typeface="Tahoma"/>
            </a:endParaRPr>
          </a:p>
        </p:txBody>
      </p:sp>
      <p:sp>
        <p:nvSpPr>
          <p:cNvPr id="103" name="PlaceHolder 2"/>
          <p:cNvSpPr>
            <a:spLocks noGrp="1"/>
          </p:cNvSpPr>
          <p:nvPr>
            <p:ph/>
          </p:nvPr>
        </p:nvSpPr>
        <p:spPr>
          <a:xfrm>
            <a:off x="457200" y="1371600"/>
            <a:ext cx="82296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fications for Eld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ameles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Husband of one wif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perat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ober mind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pectabl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Hospitabl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to teach</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t given to win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violent</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t greed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tl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t quarrelsom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covetou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hildren under contro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novi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600"/>
            <a:ext cx="8229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1 Timothy 3:8-13</a:t>
            </a:r>
            <a:endParaRPr b="0" lang="en-US" sz="4400" spc="-1" strike="noStrike">
              <a:solidFill>
                <a:srgbClr val="c1cb75"/>
              </a:solidFill>
              <a:latin typeface="Tahoma"/>
            </a:endParaRPr>
          </a:p>
        </p:txBody>
      </p:sp>
      <p:sp>
        <p:nvSpPr>
          <p:cNvPr id="105"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fications for Deac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rent</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t double-tongue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given to wine</a:t>
            </a:r>
            <a:r>
              <a:rPr b="0" lang="en-US" sz="2800" spc="-1" strike="noStrike">
                <a:solidFill>
                  <a:srgbClr val="ffffff"/>
                </a:solidFill>
                <a:latin typeface="Tahoma"/>
              </a:rPr>
              <a:t>	</a:t>
            </a:r>
            <a:r>
              <a:rPr b="0" lang="en-US" sz="2800" spc="-1" strike="noStrike">
                <a:solidFill>
                  <a:srgbClr val="ffffff"/>
                </a:solidFill>
                <a:latin typeface="Tahoma"/>
              </a:rPr>
              <a:t>Not greed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lding faith with pure conscienc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ameles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Wives reveren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ves not slanderers</a:t>
            </a:r>
            <a:r>
              <a:rPr b="0" lang="en-US" sz="2800" spc="-1" strike="noStrike">
                <a:solidFill>
                  <a:srgbClr val="ffffff"/>
                </a:solidFill>
                <a:latin typeface="Tahoma"/>
              </a:rPr>
              <a:t>	</a:t>
            </a:r>
            <a:r>
              <a:rPr b="0" lang="en-US" sz="2800" spc="-1" strike="noStrike">
                <a:solidFill>
                  <a:srgbClr val="ffffff"/>
                </a:solidFill>
                <a:latin typeface="Tahoma"/>
              </a:rPr>
              <a:t>Wives temperate</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ves faithful in all thing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sband of one wife</a:t>
            </a:r>
            <a:r>
              <a:rPr b="0" lang="en-US" sz="2800" spc="-1" strike="noStrike">
                <a:solidFill>
                  <a:srgbClr val="ffffff"/>
                </a:solidFill>
                <a:latin typeface="Tahoma"/>
              </a:rPr>
              <a:t>	</a:t>
            </a:r>
            <a:r>
              <a:rPr b="0" lang="en-US" sz="2800" spc="-1" strike="noStrike">
                <a:solidFill>
                  <a:srgbClr val="ffffff"/>
                </a:solidFill>
                <a:latin typeface="Tahoma"/>
              </a:rPr>
              <a:t>Good stand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ld in the fait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1 Timothy 3:15</a:t>
            </a:r>
            <a:endParaRPr b="0" lang="en-US" sz="4400" spc="-1" strike="noStrike">
              <a:solidFill>
                <a:srgbClr val="c1cb75"/>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consider this to be the key verse in 1 Timoth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but if I am delayed, I write so that you may know how you ought to conduct yourself in the house of God, which is the church of the living God, the pillar and ground of the tru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600"/>
            <a:ext cx="8229600" cy="115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1 Timothy 4</a:t>
            </a:r>
            <a:endParaRPr b="0" lang="en-US" sz="4400" spc="-1" strike="noStrike">
              <a:solidFill>
                <a:srgbClr val="c1cb75"/>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latter times some will depart from the faith, giving heed to deceiving spirits and doctrines of dem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t no one despise your youth, but be an example to the believers in word, in conduct, in love, in spirit, in faith, in pur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21:39:45Z</dcterms:created>
  <dc:creator>Ray Cooley</dc:creator>
  <dc:description/>
  <dc:language>en-US</dc:language>
  <cp:lastModifiedBy>Ray Cooley</cp:lastModifiedBy>
  <dcterms:modified xsi:type="dcterms:W3CDTF">2007-03-08T02:26:36Z</dcterms:modified>
  <cp:revision>37</cp:revision>
  <dc:subject/>
  <dc:title>Life of Christ, Part 2 In Perea</dc:title>
</cp:coreProperties>
</file>